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69E0-D50F-4096-B809-60DF65789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CA2E-A113-4719-B3A3-7E49B7D35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27B2-F423-4941-B31E-5393222CD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8F89-0515-435F-B313-062E7D2D6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A1B3-9A7F-40F5-A3DD-ADD1DB0F0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4F68-CF90-4D28-8F22-F9B3BCFAB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79B9-AF8B-4C85-B98D-026CEB8E4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64FD-185E-442F-A726-EBE2E57E3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EAEB-88E3-4A46-B1C9-6ADFD16FE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3A81-D292-4B13-8735-47D2D235E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0A97-EA79-4707-9E5D-0337FC3E6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A04F-07E4-4998-AAA1-42E32C94B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40F8-5482-4F3B-842F-6D953998F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231B-4961-412E-925A-E74BD7CC6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07DE-F532-4964-A6C6-E2A8EE56B8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E507-29E1-4A9D-82BD-8A7699A15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A06B-A054-4967-A780-C73AF764C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C04D-EE2F-42CF-A43D-2D0536D0C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7CC6-032D-411D-B1BF-691277797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6EEB-093B-46FC-9821-45D282E74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A2FF-BAA2-40DC-BC7E-D2225588A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809B-021E-496D-A4C0-A559443B2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E009-7E02-4B5E-9F43-B722B53AB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B4CD-0802-45D5-BB59-69F5FE705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A38D-7CE9-4DAA-8F00-70E9F7D7E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5EA7-25A6-445B-83E6-A78008C2B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95D5-A1AE-4246-A3A9-250017B1E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EFBA-AA0F-4999-9E45-6EC6D7655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55D7-206F-447C-B26E-BF1E2CBBA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63F-1B63-4D6F-B28C-1FD1ECC2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478-E36E-4DE8-A99D-DA803D36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11C-527F-42AB-9FE7-425E5FD5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262-0BF7-4E9B-892C-257F22D8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D59-9D07-4B3A-9E7F-5B508FAD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421-2075-412D-8FF1-6048B220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743-D795-4CA2-BAF1-36CCF1B1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CBD-B583-44D5-9BB3-8500AF70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223-FB36-4BCD-8F78-2381F7DF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BA4-68FC-4497-919F-713AE5DA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0DE-9486-4CAB-9548-405EFD45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D1A-3FA3-4D2B-81C0-32DFC803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A5F9-7858-4458-AC2A-331796BB9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ROP-LIVESTO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n-farm feed formulation using locally available crops and trees/shru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orporation of non-starch grain staple food crops into livestock feeds (Cassava &amp; sweetpotato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soil seed crops (sunflower, siemsim, cotton, soya be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cereal by products (Maize, sorghum, mille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fodder from tree/shrubs (leucaena &amp; moringa leaf me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ory identification of suitable tree and suitable trees and forage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forest/trees/shrub seed production and supply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dder bank/reserve establish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, ICRISAT, C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P-LIVESTOCK INTERACTIONS FOR EXTENSIV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sture 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gration of trees/shrubs into pasture with focus on carbon sequestration/C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ies for forage  and tree seeds and planting mate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land use planning to minimize confl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luencing policy, by-laws &amp; regul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eetings of farmers and livestock keepers to identify how they can help each oth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ure management and exchange for crop resid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cking rates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/knowledge on child nutr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p residues/by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ory identification of suitable trees and forage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zing reserve establish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farmer-livestock keepers conflict resolution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use planning meetings with inputs from relevant ministries and local 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flip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VESTOCK-SOIL-CROP INTER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vestock-Soil-Water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re quality and optimum application r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s of manure/fertilizer and soil moisture on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harvesting technologies for livestock use and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 manure quality (nutrient content) in relation to feed and/or pasture typ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optimum application rate for man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on-farm trials/demonstration for the Interactions of manure/fertilizer and soil moisture on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ntory of water harvesting technologies for livestock use and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-Hombolo (Elirehem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RAF (Water Harvesting Uni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BF/CI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SS-CUTTING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oss-cutting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gender, climate change, capacity  building, are integrated in all research activit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d and fertili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1258920" y="1447920"/>
            <a:ext cx="3600360" cy="3205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179280" y="3357720"/>
            <a:ext cx="3600720" cy="2966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2340000" y="3352680"/>
            <a:ext cx="3600360" cy="29718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P-LIVESTOCK INTERACTIONS FOR INTENSIV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ual purpose legume crops and tree/shrubs for ruminant and non-ruminant anim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pid appraisal of available varieties /spe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selection of available varieties/species for market, disease/drought resistance, soil improvement, compatibility with cro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testing at plot and landscape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to mark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 on livestock feed uti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tilization of crop resid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post-harvesting technologies (PHT) for both crops and livestock (food and feed safe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a protocol for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out if seed/planting materials are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communities to work w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lready going on/ leverage with on-going projects (e.g. ILRI work in Mvomero),focus feed quality improvement that has implication on the manure quality/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llage Level Poultry and Crop Production for Meat and Eg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es for feeding and managing poul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es for improving human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eting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p production of f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 poultry and crop/shrub produc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entry points where resear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PHT for improvement of nutrition market and food security (food and feed safe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research proposal and implementa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2:39Z</dcterms:modified>
  <cp:revision>48</cp:revision>
  <dc:subject/>
  <dc:title>What component technologies  would fit in this system?</dc:title>
</cp:coreProperties>
</file>